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0F8B-0AB2-48B0-B310-D1319F5CA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2E56-BDA2-43E7-B39E-1898EFA28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D95C-E9C1-4AA5-85EB-6A0D29421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4D76-47A2-41BA-9BCA-22FAFB9E8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0C2B-12B9-4AA4-970E-4305533A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707-4D6A-4DFF-8679-810781EE8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1061-5042-4580-B08A-85B0E6D4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2D5F-983C-4DAD-9415-63A91430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C49-5BBC-4849-A088-0292417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B8CC-E0B5-4642-B3C4-700A77B15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1683-DA91-4389-A037-BB5EB9F7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8FBF-BF03-4521-8687-825F375A3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A04E4-BF8A-4A23-8891-13D189AE5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etabolic Pathwa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lactose is absent, the active repressor blocks the operator so the mRNA can’t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hen lactose is present, the lactose sugar joins on to the repressor and makes it not fit the operator sire, so the mRNA can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15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times a gene action can only be blocked by an effector, which makes the repressor the right shape to fi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se genes are turned on all the time until something blocks it, the presence of an effector in the ce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15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nit Standard 893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etabolic pathwa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ene contr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chael ‘Gene control in Eukaryotes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What is metabolis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hemical reactions that happen in ce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ctions are all a series of steps that change the first chemical into the next chemical and so on until the end of the rea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step is controlled by a protein so that means each step is controlled by a 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here are two forms of a gene (the dominant and the recessive alleles) there will be two pathways to go to get to two different end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1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Turning genes on and off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prokaryotes it has been easy to study, 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at would be a good way for a cell to measure when to start making a protein, by turning a gene on and of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One part of the chromosome is the actual structural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other part is the promoter. This is where the RNA polymerase will join on to read the ge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fter the promoter is the operator. This is where the repressor can bind on to stop the 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final place is the Regulator Gene which is where the repressor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4 parts to an oper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mo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gulator – repressor ma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motor  - mRNA jo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erator   - blocking si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lac repressor protein stops transcription of the lactose operon D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ctose inactivates the repressor and allows RNA pol transcription: in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ac ope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ctose is a sugar that we can use for ener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it is present the enzyme to break it down needs to be made, when lactose is not around cells don’t need to make the enzy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 the cells know when to make the enzym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52:53Z</dcterms:created>
  <dc:creator>Ministry of Education</dc:creator>
  <dc:description/>
  <dc:language>en-US</dc:language>
  <cp:lastModifiedBy>Ministry of Education</cp:lastModifiedBy>
  <dcterms:modified xsi:type="dcterms:W3CDTF">2009-07-12T21:52:13Z</dcterms:modified>
  <cp:revision>8</cp:revision>
  <dc:subject/>
  <dc:title>Metabolic Pathways</dc:title>
</cp:coreProperties>
</file>